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B34-4BBF-42D0-9D2D-82F52766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41E-2A81-4B03-AA06-E2A54BF2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656-DA71-4BBA-A7A7-17B156F0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022-E8B8-45DD-BAA7-75AE6B2E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48A-A64D-46DA-AE5A-07E9C53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7B09-F7DE-457A-ADE0-8F693C9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6AC3-C02B-49F7-9D25-8EB5CD8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8B45-5B19-414B-BAE6-3F2DB2B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A540-3B69-46AF-85F5-F6FAC50F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33F-734B-4D3A-8686-0FD3CEE6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3305-62EB-4B19-93EC-942AF1D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B50-0E74-415F-9252-9802710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408-9CF4-40F0-B1DD-7EA3F6A8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AA1B-9597-4ACF-85C8-5B15313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386-F48B-4674-B5EF-14749E1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CA8-A0BC-40CD-B14E-039ED7F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521B-C18A-4DF9-B435-8D9AAFF9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633-00B4-4273-BAB7-BAD9826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3B1-78B2-4CE7-9169-E092A871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903-E5E7-4158-894B-CC9DB9C1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4C2-8F07-41AE-89C8-435F77CD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4B3-1DD1-42A3-99CD-EF47BF5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AC0-7941-4B4B-8CE5-7E39562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25C-D01A-43BD-A5A2-29CC431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A554-1583-4E4B-9244-F271AC17E4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CA1-518A-48E5-B131-D8775F8B89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transltion/language_aid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rreo.uah.es/exchweb/bin/redir.asp?URL=http://www.iol.org.uk" TargetMode="External"/><Relationship Id="rId2" Type="http://schemas.openxmlformats.org/officeDocument/2006/relationships/hyperlink" Target="https://correo.uah.es/exchweb/bin/redir.asp?URL=http://www.iol.org.uk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ett.org/" TargetMode="External"/><Relationship Id="rId2" Type="http://schemas.openxmlformats.org/officeDocument/2006/relationships/hyperlink" Target="http://www.acett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uah.es/traduccion" TargetMode="External"/><Relationship Id="rId2" Type="http://schemas.openxmlformats.org/officeDocument/2006/relationships/hyperlink" Target="http://www2.uah.es/traduccion" TargetMode="External"/><Relationship Id="rId3" Type="http://schemas.openxmlformats.org/officeDocument/2006/relationships/hyperlink" Target="http://www2.uah.es/traduccion" TargetMode="External"/><Relationship Id="rId4" Type="http://schemas.openxmlformats.org/officeDocument/2006/relationships/hyperlink" Target="http://www2.uah.es/traduccion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European comission. Translation and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drafting resourc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nks hacia páginas oficiales muy ú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cion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Guías de gram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e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gramas para traducir en alfabetos diferentes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ec.europa.eu/transltion/language_aid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Interactive Terminology for Euro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cionario de térm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chas áreas temáticas (vida política, relaciones internacionales, comunidades europea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duce a diversos idi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ate.europa.e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IOL </a:t>
            </a:r>
            <a:r>
              <a:rPr b="0" lang="es-ES" sz="1400" spc="-1" strike="noStrike">
                <a:solidFill>
                  <a:srgbClr val="006666"/>
                </a:solidFill>
                <a:latin typeface="Arial"/>
              </a:rPr>
              <a:t>(Chartered Institute of Linguistics)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cha información sobre la situación profesional de traductores e intérpretes y sus oportunidades de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blicar anuncios de trabajo y encontrar profesionales de la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ámenes y t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nks muy interesa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</a:t>
            </a:r>
            <a:r>
              <a:rPr b="0" lang="en-GB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www.iol.org.uk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T 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(Sección Autónoma de Traductores de Libros de la Asociación 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Colegial de Escritores)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forma de la situación laboral del traductor de libros y sus proble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sillos, talleres, tertulias, becas, premios, encuentros y conferenc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sta de asociaciones profesionales de traductores de lib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ibliotecas y textos electrón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ros sobre lengua, literatura y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pa de universidades con estudios de traducción en España y Portug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cción de consultas frecue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ttp://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www.acett.org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/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A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formación sobre el Máster en Comunicación Intercultural, Interpretación y Comunicación en Servicios Públicos, así como un doctorado en Lenguas Modernas, Literatura y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y útil para alumnos que quieran ampliar sus estud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s sobre asociaciones de traductores de todo el mun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www2.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uah.es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3"/>
              </a:rPr>
              <a:t>/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4"/>
              </a:rPr>
              <a:t>traduccion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5:15:39Z</dcterms:created>
  <dc:creator>usuario</dc:creator>
  <dc:description/>
  <dc:language>en-US</dc:language>
  <cp:lastModifiedBy>usuario</cp:lastModifiedBy>
  <dcterms:modified xsi:type="dcterms:W3CDTF">2011-09-28T08:52:12Z</dcterms:modified>
  <cp:revision>8</cp:revision>
  <dc:subject/>
  <dc:title>    AIETI (Asociación Ibérica de Estudios de Traducción e Interpretación)</dc:title>
</cp:coreProperties>
</file>